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1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gif" ContentType="image/gif"/>
  <Override PartName="/ppt/media/image26.jpeg" ContentType="image/jpeg"/>
  <Override PartName="/ppt/media/image6.wmf" ContentType="image/x-wmf"/>
  <Override PartName="/ppt/media/image3.png" ContentType="image/png"/>
  <Override PartName="/ppt/media/image17.jpeg" ContentType="image/jpeg"/>
  <Override PartName="/ppt/media/image2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2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A73-08D7-4ECB-A2E9-8F66F4B0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43A-D1A9-4B61-A24C-7B53CB43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967D2-6E5F-43D0-AF28-408075E7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E2EFB-F29C-4F2D-AFF9-537B0B02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810F2-9222-45D6-886D-007D6DC2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77489-DF4A-4003-BE3A-15DC7384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3F3AE-4343-45E4-97B2-1AEA23F2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EA831-1A68-4FEB-9C43-2312548C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0C2E-FE4A-4460-B95B-7966428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F27D0-5E01-4A40-8442-A4C73829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FCD9B-8C9A-42D8-9EF8-452255E9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B705F-6F39-4333-B291-BC030DA8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783-449D-4E76-85FD-9115A327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4B40E-9990-49E9-9617-EB103700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63CE5-DECA-4CE4-B28B-1ADC92D8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69347-67A0-49B3-B747-118B1F8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601C1-7B56-4A4D-B9DA-F7F2DFC8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A8AAF-46BC-43E8-91F8-3A75DDB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24974-67BC-4A32-855F-D91A1AA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A0D47-430B-40FC-BBBF-96329D2B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A1880-B9F3-4B10-972C-6E0CDF2A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BDC6A-90D9-4A99-B3CE-88769CD0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6D915-43D3-445A-BF3E-F5DD48C2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D2E-6B88-4876-872B-47BE48F3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0E056-6447-4695-82C6-5D5AA369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4665C-5328-4B43-9BFF-DDCBD41C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D4B96-78F2-49BE-8914-D03D5F8B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194B9-58BD-4590-B751-639AA97B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6EBD5-2B66-444D-976E-8EB0E3F6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E6367-A504-4F9E-B084-8BC65AE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45227-D5C5-4FBF-AB1B-CBA0FFCB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936D9-5AC2-406D-B022-6003D15A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91CD3-0882-436A-BF7D-B295F93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00186-FFE6-44BC-BE9D-74590291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49FA-23AF-439C-B0DD-0EEB336F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64957-B129-4C90-A790-403045A6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C8252-3C8F-430D-AE55-5F616A9F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D7257-CF70-45D2-8171-2AD1C96F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77AF8-88FC-48E4-BA9A-4915006B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3A846-0B76-4A06-8EFA-36E16762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2CD7B-E768-4D16-A6D4-046735D0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4AB93-204D-4345-8746-9E02D480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C4AA6-B30E-45CD-811F-6CFBF6B2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8D6AD-02CC-4490-82D0-32D06BC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90CFC-582C-4E84-803B-A43AA6F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760-BCFA-4091-A135-DC650FE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D2B82-C97C-4EBD-A0AA-978DED5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7663D-F8EC-42FC-B43C-AB7D246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1986E-A542-4BC6-B70E-92C1006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E8F94-7D33-4719-892D-D049076A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735C5-3183-434C-8C58-92E3A11B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A34E2-03F8-4845-B42F-1851EBBF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68981-90D7-41AE-AF09-DF616E99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48086-9EF3-4238-9753-77969853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10EB3-0ED5-4B81-9D90-495C6D38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6C906-E363-42CC-A674-62C79758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DBA4-AA92-473C-A0AE-3875A50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0F78E-0729-4904-B8AD-9B7D303B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B477B-0A4A-4D03-966F-D28A8600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AC583-BD45-43B7-B19C-FE36B764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927DA-56D5-487C-9DB0-04E292E4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DC50E-D000-4C80-8DE7-36A1ED45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2E848-A875-4F02-ADB6-F28093EE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3FD73-76B9-4B07-A753-548A9069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D94-82F2-4B54-8A8C-39C00A40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FC68-65C9-4790-B637-BE080886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4B3-201D-408D-B0F1-A70DD3E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CBC1-1BD2-4B56-91CA-44471A1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165-4269-4A06-8858-E6E99DB1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1211-7D12-48F7-8E77-E133AC42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BCC5-1140-463C-99F6-1D13240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05E-97A8-44A1-967E-17B7C5D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87C4-DF40-46D6-8A6E-E099E73F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9B70-9E6F-4315-BF81-E2183583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1B9E-88B3-4E18-A66F-67FC5F83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753BC-2013-4C20-8518-14ECBF58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2EC9-357B-493E-B5FC-B48772CB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9699-BFFD-4878-AA36-1E2602F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E234-62CD-4821-B904-18478DD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CB5-0F97-4D11-88CB-D9C00849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143F-B289-45DB-8C7C-065B7B6C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1566-3E9C-4DC7-87D6-D1AB0E8A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AC1D-7DEB-470C-9D89-8010413D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5696-9BB2-41C3-9044-5103525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D9C1-C0C2-45BF-A20D-3B237E04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A948-DFE2-4025-9476-5D433BE0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9207-E0B9-4565-B5A2-2B7A2499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7E4A-29D6-4FEE-8554-A86B2146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8D1E-7086-4985-938E-4BE27C7A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AF71-90B7-4FEB-A4D6-D9D0F89D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150-67D8-4B53-A329-602CCCD3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E656-191E-49B0-BB41-136EC2E0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45BF-338B-4B01-AEF3-118AB39A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154A-6A2F-465C-B8F1-40A8B8C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9615-BE83-447C-A662-224388E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A91A-7E4B-4478-B062-D383ECE5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6060-408E-4B5D-9004-A0A115D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0F0AA-6895-4801-8B0F-72569D5C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F26B-4016-484A-8FB7-0FC07350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1495-CE9D-408C-9DD7-72ED9A8F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06C9-1B9B-45B3-A44A-C30F3D4A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39A-6AB0-4F65-BBE1-6B034BA2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84A84-5019-4632-B609-6A1325E7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72D04-EEFD-4567-B02D-3935D73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7428C-AE35-4DD2-B28C-96D226B3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6F3CA-0572-49D1-B092-8A4F136C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3C0B2-D520-40F5-988B-6FFAFFB3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4727-ACF5-41BE-996D-4D0209F0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70A4-37BF-4A9A-9058-699942E4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907D1-FF76-42F8-B77C-27B665F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B6BE6-6CC9-49FB-A967-FE087B13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0E8F-B7F3-4597-A4D2-55BA5535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3D1-C2F5-4784-B268-3801F409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4472-2665-4DCC-82D5-714E5EC0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B01A-9BA7-4ADB-B8E1-AB89EC9E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D2771-41E4-41F5-9826-69FA7CDD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BAAE-C75E-4959-B4A1-6AE903C2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D16F7-F585-4048-81AE-81D251F3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E08F2-0C2D-4A46-B867-D4CABFB8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4FB17-9C84-4DE9-9606-6D3021E8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B2A5E-2A1A-4DB5-A6D2-7443A46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AE50-38DF-4D29-B963-917C330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D59F3-A074-457F-8733-92EF555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8E6-AC92-4FE8-9010-9C21A7A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3226-8C41-4261-8D52-5B4DEEE6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CC2CC-8F9F-4315-AEE7-F5FC6663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1616-74A1-466C-ABF4-234D7962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2C521-2E96-49B4-BB5C-1DF5A10E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0E2D0-AB3E-4AC5-8253-D703B20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0ACE7-CB74-4E16-9A55-EDB07A4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85895-5E3A-439C-8499-49E7F928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7563-0F95-4B74-867C-16551F85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96281-62A6-4E02-AF2A-74A9ADD5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7BB48-4CFF-4364-8A21-DD96B11D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F08-CE11-4609-B668-6EE423D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D95B0-C245-4A9D-82DE-125CF874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982D-496D-4527-B100-D7E91E41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2948-7188-41E1-9803-E4FF7C8E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2C5C8-6372-4AE8-A379-2FD5668A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FAE5A-CDA8-41F6-A5F4-EDF1ADFA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AFAFC-EF44-4634-AFF0-16280CC9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38F00-F8EB-4452-9D0A-13DBF420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FC5B7-F5ED-4F92-883B-CE251775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9FFC-8D08-4B29-9D75-2663398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79F5D-8805-45E7-A247-E475BB07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803-9B6C-4E06-8706-0C42805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AE3C3-0C83-4AC0-AF66-8B47A4A4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4505-D98E-47F0-A037-302673F1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DD9CD-6236-4604-ADBA-28BF7A2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209FF-74EB-488A-9404-64520304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029A5-C8D6-431F-87B7-0F5D336C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100D8-A588-40C8-AA78-FB7D7603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A10E5-5AC8-47FA-8382-C4C6CB8E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C93D1-2676-484A-8813-928E40E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12812-1E2B-446C-8DB9-A3DB0225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40E88-C8DE-4FD8-BB1A-A6E5B6CD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4B5B-C97C-45FC-98F1-C9729F751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A36-313D-44EA-8872-182FF11A64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C787-3834-4092-84B2-C93F456618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2E9A-40CA-48A4-9F88-DEC1DAB5031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05B-3C60-49D4-9353-F41CB50B8D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5592-5230-4D74-988D-7532DA3606B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4ED9-8CCC-4B92-AE02-07E4C4DF07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CE2A-4FD5-4C6C-926B-E8E359E71B8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406-387D-4D1B-B254-931A851E6E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45EC-D154-4BCC-9F22-2FB6837C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F2D5-2D13-43F8-A9BC-24FCE3E1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0E80-ADE6-4AE0-A948-BAACB0CB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FDEB-E67B-4B17-9348-E7C12E071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E7D-3F2B-4C49-88D2-80D5E05126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8AE-341A-4283-B1A3-430CF9AAC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41C7-0513-4F30-B167-BF1080EAD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2DBE-B1E9-4B01-96E4-628D8D279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0216-CEE0-49AE-8972-5CA5B9871E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B94B-5706-412D-AC9E-DFEEDF02E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65DF-46F0-4F47-BC6C-6AC0191DA8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D7E-E6A4-4664-A759-DD53A69E7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istory.com/interactives/witness-to-911" TargetMode="External"/><Relationship Id="rId4" Type="http://schemas.openxmlformats.org/officeDocument/2006/relationships/hyperlink" Target="http://www.cnn.com/studentnews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3.gi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8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8"/>
          <p:cNvSpPr/>
          <p:nvPr/>
        </p:nvSpPr>
        <p:spPr>
          <a:xfrm>
            <a:off x="0" y="0"/>
            <a:ext cx="44197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,  9-12 &amp; 13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Geo Test next bloc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2" descr="american%20eagle%20with%20trade%20center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3"/>
          <p:cNvSpPr/>
          <p:nvPr/>
        </p:nvSpPr>
        <p:spPr>
          <a:xfrm>
            <a:off x="0" y="762120"/>
            <a:ext cx="4419720" cy="203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: 9-1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9/11 a day of remembra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looking"/>
          <p:cNvPicPr/>
          <p:nvPr/>
        </p:nvPicPr>
        <p:blipFill>
          <a:blip r:embed="rId2"/>
          <a:srcRect l="0" t="9440" r="0" b="0"/>
          <a:stretch/>
        </p:blipFill>
        <p:spPr>
          <a:xfrm>
            <a:off x="685800" y="2819520"/>
            <a:ext cx="3124080" cy="4038480"/>
          </a:xfrm>
          <a:prstGeom prst="rect">
            <a:avLst/>
          </a:prstGeom>
          <a:ln w="0">
            <a:noFill/>
          </a:ln>
        </p:spPr>
      </p:pic>
      <p:sp>
        <p:nvSpPr>
          <p:cNvPr id="537" name="TextBox 6"/>
          <p:cNvSpPr/>
          <p:nvPr/>
        </p:nvSpPr>
        <p:spPr>
          <a:xfrm>
            <a:off x="0" y="1600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 9/11/01 the US was attacked by terrorist and killed thousands of innocent people.  A lot of things changed that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0" y="556272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istory Chann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0" y="49528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N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4"/>
          <p:cNvSpPr/>
          <p:nvPr/>
        </p:nvSpPr>
        <p:spPr>
          <a:xfrm>
            <a:off x="0" y="662796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t to secure these Ri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vernments are instituted among m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riving their just Powers from the Consent of the Govern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F638-878C-4B05-ADCD-A484E3E696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" descr="World map.color.bm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4191120" y="2895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5"/>
          <p:cNvSpPr/>
          <p:nvPr/>
        </p:nvSpPr>
        <p:spPr>
          <a:xfrm>
            <a:off x="6477120" y="2362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609588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7"/>
          <p:cNvSpPr/>
          <p:nvPr/>
        </p:nvSpPr>
        <p:spPr>
          <a:xfrm>
            <a:off x="5791320" y="28195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2"/>
          <p:cNvSpPr/>
          <p:nvPr/>
        </p:nvSpPr>
        <p:spPr>
          <a:xfrm>
            <a:off x="251460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ran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228600" y="1219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17524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5"/>
          <p:cNvSpPr/>
          <p:nvPr/>
        </p:nvSpPr>
        <p:spPr>
          <a:xfrm>
            <a:off x="457200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6"/>
          <p:cNvSpPr/>
          <p:nvPr/>
        </p:nvSpPr>
        <p:spPr>
          <a:xfrm>
            <a:off x="533412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259092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sosceles Triangle 18"/>
          <p:cNvSpPr/>
          <p:nvPr/>
        </p:nvSpPr>
        <p:spPr>
          <a:xfrm>
            <a:off x="5105520" y="3886200"/>
            <a:ext cx="222120" cy="15228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50292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0"/>
          <p:cNvSpPr/>
          <p:nvPr/>
        </p:nvSpPr>
        <p:spPr>
          <a:xfrm>
            <a:off x="5993280" y="1600200"/>
            <a:ext cx="8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23"/>
          <p:cNvSpPr/>
          <p:nvPr/>
        </p:nvSpPr>
        <p:spPr>
          <a:xfrm>
            <a:off x="6375240" y="2881440"/>
            <a:ext cx="828720" cy="233280"/>
          </a:xfrm>
          <a:custGeom>
            <a:avLst/>
            <a:gdLst/>
            <a:ahLst/>
            <a:rect l="l" t="t" r="r" b="b"/>
            <a:pathLst>
              <a:path w="827903" h="233261">
                <a:moveTo>
                  <a:pt x="0" y="60266"/>
                </a:moveTo>
                <a:cubicBezTo>
                  <a:pt x="12357" y="56147"/>
                  <a:pt x="25421" y="53734"/>
                  <a:pt x="37071" y="47909"/>
                </a:cubicBezTo>
                <a:cubicBezTo>
                  <a:pt x="132890" y="0"/>
                  <a:pt x="18031" y="41900"/>
                  <a:pt x="111211" y="10839"/>
                </a:cubicBezTo>
                <a:cubicBezTo>
                  <a:pt x="135925" y="19077"/>
                  <a:pt x="170902" y="13878"/>
                  <a:pt x="185352" y="35553"/>
                </a:cubicBezTo>
                <a:cubicBezTo>
                  <a:pt x="193590" y="47910"/>
                  <a:pt x="198468" y="63346"/>
                  <a:pt x="210065" y="72623"/>
                </a:cubicBezTo>
                <a:cubicBezTo>
                  <a:pt x="220236" y="80760"/>
                  <a:pt x="234612" y="81402"/>
                  <a:pt x="247136" y="84980"/>
                </a:cubicBezTo>
                <a:cubicBezTo>
                  <a:pt x="355739" y="116008"/>
                  <a:pt x="244758" y="80067"/>
                  <a:pt x="333633" y="109693"/>
                </a:cubicBezTo>
                <a:cubicBezTo>
                  <a:pt x="341871" y="134407"/>
                  <a:pt x="336671" y="169384"/>
                  <a:pt x="358346" y="183834"/>
                </a:cubicBezTo>
                <a:lnTo>
                  <a:pt x="432487" y="233261"/>
                </a:lnTo>
                <a:cubicBezTo>
                  <a:pt x="453082" y="229142"/>
                  <a:pt x="474009" y="226430"/>
                  <a:pt x="494271" y="220904"/>
                </a:cubicBezTo>
                <a:cubicBezTo>
                  <a:pt x="519403" y="214050"/>
                  <a:pt x="568411" y="196190"/>
                  <a:pt x="568411" y="196190"/>
                </a:cubicBezTo>
                <a:cubicBezTo>
                  <a:pt x="580768" y="183833"/>
                  <a:pt x="590942" y="168813"/>
                  <a:pt x="605482" y="159120"/>
                </a:cubicBezTo>
                <a:cubicBezTo>
                  <a:pt x="616320" y="151895"/>
                  <a:pt x="632381" y="154900"/>
                  <a:pt x="642552" y="146763"/>
                </a:cubicBezTo>
                <a:cubicBezTo>
                  <a:pt x="654148" y="137486"/>
                  <a:pt x="652703" y="112605"/>
                  <a:pt x="667265" y="109693"/>
                </a:cubicBezTo>
                <a:cubicBezTo>
                  <a:pt x="719771" y="99192"/>
                  <a:pt x="774357" y="109693"/>
                  <a:pt x="827903" y="109693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27"/>
          <p:cNvSpPr/>
          <p:nvPr/>
        </p:nvSpPr>
        <p:spPr>
          <a:xfrm>
            <a:off x="4888080" y="2484360"/>
            <a:ext cx="360360" cy="195480"/>
          </a:xfrm>
          <a:custGeom>
            <a:avLst/>
            <a:gdLst/>
            <a:ahLst/>
            <a:rect l="l" t="t" r="r" b="b"/>
            <a:pathLst>
              <a:path w="360860" h="196729">
                <a:moveTo>
                  <a:pt x="339457" y="160638"/>
                </a:moveTo>
                <a:cubicBezTo>
                  <a:pt x="355933" y="144162"/>
                  <a:pt x="310608" y="112113"/>
                  <a:pt x="277673" y="86497"/>
                </a:cubicBezTo>
                <a:cubicBezTo>
                  <a:pt x="254228" y="68262"/>
                  <a:pt x="203533" y="37070"/>
                  <a:pt x="203533" y="37070"/>
                </a:cubicBezTo>
                <a:cubicBezTo>
                  <a:pt x="191176" y="41189"/>
                  <a:pt x="178557" y="54264"/>
                  <a:pt x="166463" y="49427"/>
                </a:cubicBezTo>
                <a:cubicBezTo>
                  <a:pt x="152674" y="43912"/>
                  <a:pt x="153346" y="21634"/>
                  <a:pt x="141749" y="12357"/>
                </a:cubicBezTo>
                <a:cubicBezTo>
                  <a:pt x="131578" y="4220"/>
                  <a:pt x="117036" y="4119"/>
                  <a:pt x="104679" y="0"/>
                </a:cubicBezTo>
                <a:cubicBezTo>
                  <a:pt x="92322" y="8238"/>
                  <a:pt x="76885" y="13117"/>
                  <a:pt x="67608" y="24714"/>
                </a:cubicBezTo>
                <a:cubicBezTo>
                  <a:pt x="59471" y="34885"/>
                  <a:pt x="62477" y="50947"/>
                  <a:pt x="55252" y="61784"/>
                </a:cubicBezTo>
                <a:cubicBezTo>
                  <a:pt x="45558" y="76324"/>
                  <a:pt x="30538" y="86497"/>
                  <a:pt x="18181" y="98854"/>
                </a:cubicBezTo>
                <a:cubicBezTo>
                  <a:pt x="14062" y="111211"/>
                  <a:pt x="0" y="124274"/>
                  <a:pt x="5825" y="135924"/>
                </a:cubicBezTo>
                <a:cubicBezTo>
                  <a:pt x="11650" y="147574"/>
                  <a:pt x="30080" y="145951"/>
                  <a:pt x="42895" y="148281"/>
                </a:cubicBezTo>
                <a:cubicBezTo>
                  <a:pt x="75567" y="154222"/>
                  <a:pt x="108798" y="156519"/>
                  <a:pt x="141749" y="160638"/>
                </a:cubicBezTo>
                <a:cubicBezTo>
                  <a:pt x="154106" y="168876"/>
                  <a:pt x="163997" y="184425"/>
                  <a:pt x="178819" y="185351"/>
                </a:cubicBezTo>
                <a:cubicBezTo>
                  <a:pt x="360860" y="196729"/>
                  <a:pt x="322981" y="177114"/>
                  <a:pt x="339457" y="160638"/>
                </a:cubicBezTo>
                <a:close/>
              </a:path>
            </a:pathLst>
          </a:custGeom>
          <a:solidFill>
            <a:srgbClr val="66ff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4834800" y="2236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4389480" y="2666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s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6603840" y="266688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31"/>
          <p:cNvSpPr/>
          <p:nvPr/>
        </p:nvSpPr>
        <p:spPr>
          <a:xfrm>
            <a:off x="6140520" y="3002040"/>
            <a:ext cx="203040" cy="309600"/>
          </a:xfrm>
          <a:custGeom>
            <a:avLst/>
            <a:gdLst/>
            <a:ahLst/>
            <a:rect l="l" t="t" r="r" b="b"/>
            <a:pathLst>
              <a:path w="202746" h="308919">
                <a:moveTo>
                  <a:pt x="38200" y="0"/>
                </a:moveTo>
                <a:lnTo>
                  <a:pt x="13487" y="74140"/>
                </a:lnTo>
                <a:lnTo>
                  <a:pt x="1130" y="111211"/>
                </a:lnTo>
                <a:cubicBezTo>
                  <a:pt x="5249" y="144162"/>
                  <a:pt x="0" y="179719"/>
                  <a:pt x="13487" y="210065"/>
                </a:cubicBezTo>
                <a:cubicBezTo>
                  <a:pt x="18777" y="221967"/>
                  <a:pt x="37663" y="220580"/>
                  <a:pt x="50557" y="222422"/>
                </a:cubicBezTo>
                <a:cubicBezTo>
                  <a:pt x="95595" y="228856"/>
                  <a:pt x="141173" y="230659"/>
                  <a:pt x="186481" y="234778"/>
                </a:cubicBezTo>
                <a:cubicBezTo>
                  <a:pt x="202746" y="283572"/>
                  <a:pt x="198838" y="258824"/>
                  <a:pt x="198838" y="308919"/>
                </a:cubicBezTo>
              </a:path>
            </a:pathLst>
          </a:custGeom>
          <a:noFill/>
          <a:ln w="1908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5918040" y="3200400"/>
            <a:ext cx="7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1036800" y="16002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2027520" y="2666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Isosceles Triangle 36"/>
          <p:cNvSpPr/>
          <p:nvPr/>
        </p:nvSpPr>
        <p:spPr>
          <a:xfrm>
            <a:off x="2438280" y="4495680"/>
            <a:ext cx="222480" cy="152640"/>
          </a:xfrm>
          <a:prstGeom prst="triangle">
            <a:avLst>
              <a:gd name="adj" fmla="val 50000"/>
            </a:avLst>
          </a:prstGeom>
          <a:solidFill>
            <a:srgbClr val="cc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7"/>
          <p:cNvSpPr/>
          <p:nvPr/>
        </p:nvSpPr>
        <p:spPr>
          <a:xfrm>
            <a:off x="1219320" y="266688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38"/>
          <p:cNvSpPr/>
          <p:nvPr/>
        </p:nvSpPr>
        <p:spPr>
          <a:xfrm>
            <a:off x="1606680" y="2446200"/>
            <a:ext cx="307800" cy="581040"/>
          </a:xfrm>
          <a:custGeom>
            <a:avLst/>
            <a:gdLst/>
            <a:ahLst/>
            <a:rect l="l" t="t" r="r" b="b"/>
            <a:pathLst>
              <a:path w="308919" h="580767">
                <a:moveTo>
                  <a:pt x="0" y="0"/>
                </a:moveTo>
                <a:cubicBezTo>
                  <a:pt x="25301" y="8434"/>
                  <a:pt x="55716" y="14959"/>
                  <a:pt x="74141" y="37070"/>
                </a:cubicBezTo>
                <a:cubicBezTo>
                  <a:pt x="85933" y="51221"/>
                  <a:pt x="92013" y="69394"/>
                  <a:pt x="98854" y="86497"/>
                </a:cubicBezTo>
                <a:cubicBezTo>
                  <a:pt x="128217" y="159905"/>
                  <a:pt x="117720" y="146346"/>
                  <a:pt x="135925" y="210065"/>
                </a:cubicBezTo>
                <a:cubicBezTo>
                  <a:pt x="139503" y="222589"/>
                  <a:pt x="141956" y="235749"/>
                  <a:pt x="148281" y="247135"/>
                </a:cubicBezTo>
                <a:cubicBezTo>
                  <a:pt x="219098" y="374607"/>
                  <a:pt x="182103" y="274464"/>
                  <a:pt x="210065" y="358346"/>
                </a:cubicBezTo>
                <a:cubicBezTo>
                  <a:pt x="197708" y="366584"/>
                  <a:pt x="182272" y="371462"/>
                  <a:pt x="172995" y="383059"/>
                </a:cubicBezTo>
                <a:cubicBezTo>
                  <a:pt x="164858" y="393230"/>
                  <a:pt x="148735" y="414840"/>
                  <a:pt x="160638" y="420130"/>
                </a:cubicBezTo>
                <a:cubicBezTo>
                  <a:pt x="198465" y="436942"/>
                  <a:pt x="243017" y="428367"/>
                  <a:pt x="284206" y="432486"/>
                </a:cubicBezTo>
                <a:cubicBezTo>
                  <a:pt x="297479" y="565218"/>
                  <a:pt x="278051" y="519029"/>
                  <a:pt x="308919" y="580767"/>
                </a:cubicBezTo>
              </a:path>
            </a:pathLst>
          </a:custGeom>
          <a:noFill/>
          <a:ln w="28440">
            <a:solidFill>
              <a:srgbClr val="270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9"/>
          <p:cNvSpPr/>
          <p:nvPr/>
        </p:nvSpPr>
        <p:spPr>
          <a:xfrm>
            <a:off x="205488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0"/>
          <p:cNvSpPr/>
          <p:nvPr/>
        </p:nvSpPr>
        <p:spPr>
          <a:xfrm>
            <a:off x="0" y="5580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1"/>
          <p:cNvSpPr/>
          <p:nvPr/>
        </p:nvSpPr>
        <p:spPr>
          <a:xfrm>
            <a:off x="2305080" y="56246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2"/>
          <p:cNvSpPr/>
          <p:nvPr/>
        </p:nvSpPr>
        <p:spPr>
          <a:xfrm>
            <a:off x="4552920" y="560700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3"/>
          <p:cNvSpPr/>
          <p:nvPr/>
        </p:nvSpPr>
        <p:spPr>
          <a:xfrm>
            <a:off x="6946920" y="559584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35"/>
          <p:cNvSpPr/>
          <p:nvPr/>
        </p:nvSpPr>
        <p:spPr>
          <a:xfrm>
            <a:off x="728640" y="1400040"/>
            <a:ext cx="855720" cy="1368720"/>
          </a:xfrm>
          <a:custGeom>
            <a:avLst/>
            <a:gdLst/>
            <a:ahLst/>
            <a:rect l="l" t="t" r="r" b="b"/>
            <a:pathLst>
              <a:path w="854757" h="1367065">
                <a:moveTo>
                  <a:pt x="0" y="94319"/>
                </a:moveTo>
                <a:cubicBezTo>
                  <a:pt x="12357" y="81962"/>
                  <a:pt x="22530" y="66942"/>
                  <a:pt x="37070" y="57248"/>
                </a:cubicBezTo>
                <a:cubicBezTo>
                  <a:pt x="122941" y="0"/>
                  <a:pt x="81993" y="146982"/>
                  <a:pt x="86497" y="205529"/>
                </a:cubicBezTo>
                <a:cubicBezTo>
                  <a:pt x="110000" y="200829"/>
                  <a:pt x="160018" y="193483"/>
                  <a:pt x="185351" y="180816"/>
                </a:cubicBezTo>
                <a:cubicBezTo>
                  <a:pt x="198634" y="174174"/>
                  <a:pt x="210064" y="164340"/>
                  <a:pt x="222421" y="156102"/>
                </a:cubicBezTo>
                <a:cubicBezTo>
                  <a:pt x="214183" y="180816"/>
                  <a:pt x="204026" y="204970"/>
                  <a:pt x="197708" y="230243"/>
                </a:cubicBezTo>
                <a:cubicBezTo>
                  <a:pt x="193589" y="246719"/>
                  <a:pt x="192041" y="264060"/>
                  <a:pt x="185351" y="279670"/>
                </a:cubicBezTo>
                <a:cubicBezTo>
                  <a:pt x="179501" y="293320"/>
                  <a:pt x="148280" y="308502"/>
                  <a:pt x="160637" y="316740"/>
                </a:cubicBezTo>
                <a:cubicBezTo>
                  <a:pt x="178112" y="328390"/>
                  <a:pt x="201826" y="308502"/>
                  <a:pt x="222421" y="304383"/>
                </a:cubicBezTo>
                <a:cubicBezTo>
                  <a:pt x="234778" y="292026"/>
                  <a:pt x="242017" y="267313"/>
                  <a:pt x="259492" y="267313"/>
                </a:cubicBezTo>
                <a:cubicBezTo>
                  <a:pt x="272517" y="267313"/>
                  <a:pt x="268421" y="291817"/>
                  <a:pt x="271848" y="304383"/>
                </a:cubicBezTo>
                <a:cubicBezTo>
                  <a:pt x="280785" y="337152"/>
                  <a:pt x="288324" y="370286"/>
                  <a:pt x="296562" y="403237"/>
                </a:cubicBezTo>
                <a:lnTo>
                  <a:pt x="308919" y="452665"/>
                </a:lnTo>
                <a:cubicBezTo>
                  <a:pt x="321276" y="448546"/>
                  <a:pt x="340599" y="428450"/>
                  <a:pt x="345989" y="440308"/>
                </a:cubicBezTo>
                <a:cubicBezTo>
                  <a:pt x="366724" y="485925"/>
                  <a:pt x="370702" y="588589"/>
                  <a:pt x="370702" y="588589"/>
                </a:cubicBezTo>
                <a:cubicBezTo>
                  <a:pt x="391297" y="584470"/>
                  <a:pt x="412821" y="583606"/>
                  <a:pt x="432486" y="576232"/>
                </a:cubicBezTo>
                <a:cubicBezTo>
                  <a:pt x="446391" y="571018"/>
                  <a:pt x="454994" y="548606"/>
                  <a:pt x="469556" y="551519"/>
                </a:cubicBezTo>
                <a:cubicBezTo>
                  <a:pt x="484119" y="554432"/>
                  <a:pt x="486032" y="576232"/>
                  <a:pt x="494270" y="588589"/>
                </a:cubicBezTo>
                <a:cubicBezTo>
                  <a:pt x="498389" y="646254"/>
                  <a:pt x="479219" y="710682"/>
                  <a:pt x="506627" y="761583"/>
                </a:cubicBezTo>
                <a:cubicBezTo>
                  <a:pt x="518505" y="783643"/>
                  <a:pt x="566205" y="728839"/>
                  <a:pt x="580767" y="749227"/>
                </a:cubicBezTo>
                <a:cubicBezTo>
                  <a:pt x="588282" y="759748"/>
                  <a:pt x="570483" y="856293"/>
                  <a:pt x="556054" y="885151"/>
                </a:cubicBezTo>
                <a:cubicBezTo>
                  <a:pt x="549412" y="898434"/>
                  <a:pt x="539578" y="909864"/>
                  <a:pt x="531340" y="922221"/>
                </a:cubicBezTo>
                <a:cubicBezTo>
                  <a:pt x="535459" y="934578"/>
                  <a:pt x="531018" y="956309"/>
                  <a:pt x="543697" y="959292"/>
                </a:cubicBezTo>
                <a:cubicBezTo>
                  <a:pt x="672342" y="989561"/>
                  <a:pt x="779542" y="903254"/>
                  <a:pt x="729048" y="1021075"/>
                </a:cubicBezTo>
                <a:cubicBezTo>
                  <a:pt x="723198" y="1034725"/>
                  <a:pt x="712573" y="1045789"/>
                  <a:pt x="704335" y="1058146"/>
                </a:cubicBezTo>
                <a:cubicBezTo>
                  <a:pt x="700216" y="1074622"/>
                  <a:pt x="696858" y="1091306"/>
                  <a:pt x="691978" y="1107573"/>
                </a:cubicBezTo>
                <a:cubicBezTo>
                  <a:pt x="684493" y="1132524"/>
                  <a:pt x="641721" y="1186822"/>
                  <a:pt x="667265" y="1181713"/>
                </a:cubicBezTo>
                <a:cubicBezTo>
                  <a:pt x="687859" y="1177594"/>
                  <a:pt x="708673" y="1174450"/>
                  <a:pt x="729048" y="1169356"/>
                </a:cubicBezTo>
                <a:cubicBezTo>
                  <a:pt x="754889" y="1162896"/>
                  <a:pt x="808983" y="1139854"/>
                  <a:pt x="827902" y="1132286"/>
                </a:cubicBezTo>
                <a:cubicBezTo>
                  <a:pt x="836140" y="1144643"/>
                  <a:pt x="850174" y="1154707"/>
                  <a:pt x="852616" y="1169356"/>
                </a:cubicBezTo>
                <a:cubicBezTo>
                  <a:pt x="854757" y="1182204"/>
                  <a:pt x="843837" y="1193903"/>
                  <a:pt x="840259" y="1206427"/>
                </a:cubicBezTo>
                <a:cubicBezTo>
                  <a:pt x="835593" y="1222756"/>
                  <a:pt x="832782" y="1239587"/>
                  <a:pt x="827902" y="1255854"/>
                </a:cubicBezTo>
                <a:cubicBezTo>
                  <a:pt x="820417" y="1280805"/>
                  <a:pt x="811427" y="1305281"/>
                  <a:pt x="803189" y="1329994"/>
                </a:cubicBezTo>
                <a:lnTo>
                  <a:pt x="790832" y="1367065"/>
                </a:ln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44"/>
          <p:cNvSpPr/>
          <p:nvPr/>
        </p:nvSpPr>
        <p:spPr>
          <a:xfrm>
            <a:off x="2004840" y="2633760"/>
            <a:ext cx="366840" cy="307800"/>
          </a:xfrm>
          <a:custGeom>
            <a:avLst/>
            <a:gdLst/>
            <a:ahLst/>
            <a:rect l="l" t="t" r="r" b="b"/>
            <a:pathLst>
              <a:path w="367145" h="307985">
                <a:moveTo>
                  <a:pt x="8799" y="307985"/>
                </a:moveTo>
                <a:cubicBezTo>
                  <a:pt x="12918" y="254439"/>
                  <a:pt x="0" y="196709"/>
                  <a:pt x="21156" y="147347"/>
                </a:cubicBezTo>
                <a:cubicBezTo>
                  <a:pt x="31418" y="123403"/>
                  <a:pt x="37632" y="196774"/>
                  <a:pt x="45870" y="221488"/>
                </a:cubicBezTo>
                <a:lnTo>
                  <a:pt x="58226" y="258558"/>
                </a:lnTo>
                <a:cubicBezTo>
                  <a:pt x="66464" y="246201"/>
                  <a:pt x="76908" y="235059"/>
                  <a:pt x="82940" y="221488"/>
                </a:cubicBezTo>
                <a:cubicBezTo>
                  <a:pt x="93520" y="197683"/>
                  <a:pt x="107653" y="147347"/>
                  <a:pt x="107653" y="147347"/>
                </a:cubicBezTo>
                <a:cubicBezTo>
                  <a:pt x="115891" y="159704"/>
                  <a:pt x="117959" y="188020"/>
                  <a:pt x="132367" y="184418"/>
                </a:cubicBezTo>
                <a:cubicBezTo>
                  <a:pt x="149597" y="180111"/>
                  <a:pt x="166513" y="97257"/>
                  <a:pt x="169437" y="85563"/>
                </a:cubicBezTo>
                <a:cubicBezTo>
                  <a:pt x="189442" y="92232"/>
                  <a:pt x="253379" y="115247"/>
                  <a:pt x="268291" y="110277"/>
                </a:cubicBezTo>
                <a:cubicBezTo>
                  <a:pt x="280648" y="106158"/>
                  <a:pt x="276529" y="85564"/>
                  <a:pt x="280648" y="73207"/>
                </a:cubicBezTo>
                <a:cubicBezTo>
                  <a:pt x="276529" y="60850"/>
                  <a:pt x="263453" y="48230"/>
                  <a:pt x="268291" y="36136"/>
                </a:cubicBezTo>
                <a:cubicBezTo>
                  <a:pt x="282746" y="0"/>
                  <a:pt x="345636" y="11423"/>
                  <a:pt x="367145" y="11423"/>
                </a:cubicBezTo>
              </a:path>
            </a:pathLst>
          </a:custGeom>
          <a:noFill/>
          <a:ln w="284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w has our world changed because of the events that occurred on 9/1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1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C:\Documents and Settings\SMcDonald\Local Settings\Temporary Internet Files\Content.IE5\T9XPQEK1\MCj04404240000[1].wmf"/>
          <p:cNvPicPr/>
          <p:nvPr/>
        </p:nvPicPr>
        <p:blipFill>
          <a:blip r:embed="rId2"/>
          <a:stretch/>
        </p:blipFill>
        <p:spPr>
          <a:xfrm>
            <a:off x="0" y="2286000"/>
            <a:ext cx="1827360" cy="150660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8"/>
          <p:cNvSpPr/>
          <p:nvPr/>
        </p:nvSpPr>
        <p:spPr>
          <a:xfrm>
            <a:off x="685800" y="4038480"/>
            <a:ext cx="502920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rea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aration of Independe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 and then keep it in  your Daily Work s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5638680" y="129528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alligraphy"/>
              </a:rPr>
              <a:t>Celebrate Constitution Week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usa4th.gif"/>
          <p:cNvPicPr/>
          <p:nvPr/>
        </p:nvPicPr>
        <p:blipFill>
          <a:blip r:embed="rId3"/>
          <a:stretch/>
        </p:blipFill>
        <p:spPr>
          <a:xfrm>
            <a:off x="5867280" y="4572000"/>
            <a:ext cx="3124440" cy="1828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3" descr="arrow1rightred.gif"/>
          <p:cNvPicPr/>
          <p:nvPr/>
        </p:nvPicPr>
        <p:blipFill>
          <a:blip r:embed="rId4"/>
          <a:stretch/>
        </p:blipFill>
        <p:spPr>
          <a:xfrm>
            <a:off x="1676520" y="1371600"/>
            <a:ext cx="571320" cy="190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4" descr="smile13.gif"/>
          <p:cNvPicPr/>
          <p:nvPr/>
        </p:nvPicPr>
        <p:blipFill>
          <a:blip r:embed="rId5"/>
          <a:stretch/>
        </p:blipFill>
        <p:spPr>
          <a:xfrm>
            <a:off x="228600" y="4724280"/>
            <a:ext cx="685800" cy="400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6"/>
          <a:stretch/>
        </p:blipFill>
        <p:spPr>
          <a:xfrm>
            <a:off x="1752480" y="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552" name="Content Placeholder 3" descr="usamouse.gif"/>
          <p:cNvPicPr/>
          <p:nvPr/>
        </p:nvPicPr>
        <p:blipFill>
          <a:blip r:embed="rId7"/>
          <a:stretch/>
        </p:blipFill>
        <p:spPr>
          <a:xfrm>
            <a:off x="304920" y="1295280"/>
            <a:ext cx="1581120" cy="1581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5" descr="C:\Documents and Settings\SMcDonald\Local Settings\Temporary Internet Files\Content.IE5\TC0RXD6Y\MCj01500140000[1].wmf"/>
          <p:cNvPicPr/>
          <p:nvPr/>
        </p:nvPicPr>
        <p:blipFill>
          <a:blip r:embed="rId8"/>
          <a:stretch/>
        </p:blipFill>
        <p:spPr>
          <a:xfrm>
            <a:off x="6400800" y="2819520"/>
            <a:ext cx="2071800" cy="14475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eagleflg.gif"/>
          <p:cNvPicPr/>
          <p:nvPr/>
        </p:nvPicPr>
        <p:blipFill>
          <a:blip r:embed="rId9"/>
          <a:stretch/>
        </p:blipFill>
        <p:spPr>
          <a:xfrm>
            <a:off x="7391520" y="304920"/>
            <a:ext cx="1228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1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559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Hancock"/>
          <p:cNvPicPr/>
          <p:nvPr/>
        </p:nvPicPr>
        <p:blipFill>
          <a:blip r:embed="rId1"/>
          <a:stretch/>
        </p:blipFill>
        <p:spPr>
          <a:xfrm>
            <a:off x="3124080" y="152388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2514600" cy="198108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0866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of Independence Br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eagleflg.gif"/>
          <p:cNvPicPr/>
          <p:nvPr/>
        </p:nvPicPr>
        <p:blipFill>
          <a:blip r:embed="rId3"/>
          <a:stretch/>
        </p:blipFill>
        <p:spPr>
          <a:xfrm>
            <a:off x="228600" y="1522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John Adams"/>
          <p:cNvPicPr/>
          <p:nvPr/>
        </p:nvPicPr>
        <p:blipFill>
          <a:blip r:embed="rId4"/>
          <a:stretch/>
        </p:blipFill>
        <p:spPr>
          <a:xfrm>
            <a:off x="6248520" y="1371600"/>
            <a:ext cx="2171520" cy="1752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" descr=""/>
          <p:cNvPicPr/>
          <p:nvPr/>
        </p:nvPicPr>
        <p:blipFill>
          <a:blip r:embed="rId5"/>
          <a:stretch/>
        </p:blipFill>
        <p:spPr>
          <a:xfrm>
            <a:off x="0" y="4343400"/>
            <a:ext cx="5105520" cy="914400"/>
          </a:xfrm>
          <a:prstGeom prst="rect">
            <a:avLst/>
          </a:prstGeom>
          <a:ln w="0">
            <a:noFill/>
          </a:ln>
        </p:spPr>
      </p:pic>
      <p:sp>
        <p:nvSpPr>
          <p:cNvPr id="575" name="Up Arrow 7"/>
          <p:cNvSpPr/>
          <p:nvPr/>
        </p:nvSpPr>
        <p:spPr>
          <a:xfrm>
            <a:off x="1981080" y="5257800"/>
            <a:ext cx="762120" cy="3808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609480" y="5715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is to learn more about the signers of the Declaration of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12" descr="american%20eagle%20with%20trade%20center"/>
          <p:cNvPicPr/>
          <p:nvPr/>
        </p:nvPicPr>
        <p:blipFill>
          <a:blip r:embed="rId6"/>
          <a:stretch/>
        </p:blipFill>
        <p:spPr>
          <a:xfrm>
            <a:off x="5105520" y="3144960"/>
            <a:ext cx="40384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991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 July 4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ress adopted the Declaration of Independence on the morning of a bright, sunny, but cool Philadelphia day. John Dunlap printed the Declaration of Independence.  Twenty-four copies are known to exist, two of which are in the Library of Congres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e of these was Washington's personal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53cc9"/>
                </a:solidFill>
                <a:latin typeface="Adorable"/>
              </a:rPr>
              <a:t>We hold these truths to be self-evident, that all men are created equal, that they are endowed by their Creator with certain unalienable Rights, that among these are Life, Liberty and the pursuit of Happiness.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3886200" cy="16002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515120" cy="1209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"/>
          <p:cNvPicPr/>
          <p:nvPr/>
        </p:nvPicPr>
        <p:blipFill>
          <a:blip r:embed="rId3"/>
          <a:stretch/>
        </p:blipFill>
        <p:spPr>
          <a:xfrm>
            <a:off x="6781680" y="0"/>
            <a:ext cx="2238480" cy="16002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arrow1rightred.gif"/>
          <p:cNvPicPr/>
          <p:nvPr/>
        </p:nvPicPr>
        <p:blipFill>
          <a:blip r:embed="rId4"/>
          <a:stretch/>
        </p:blipFill>
        <p:spPr>
          <a:xfrm>
            <a:off x="6400800" y="914400"/>
            <a:ext cx="571680" cy="190440"/>
          </a:xfrm>
          <a:prstGeom prst="rect">
            <a:avLst/>
          </a:prstGeom>
          <a:ln w="0">
            <a:noFill/>
          </a:ln>
        </p:spPr>
      </p:pic>
      <p:sp>
        <p:nvSpPr>
          <p:cNvPr id="584" name="TextBox 7"/>
          <p:cNvSpPr/>
          <p:nvPr/>
        </p:nvSpPr>
        <p:spPr>
          <a:xfrm>
            <a:off x="5257800" y="152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use Jefferson stayed in while writing the Declaration of In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fireworks.gif"/>
          <p:cNvPicPr/>
          <p:nvPr/>
        </p:nvPicPr>
        <p:blipFill>
          <a:blip r:embed="rId5"/>
          <a:stretch/>
        </p:blipFill>
        <p:spPr>
          <a:xfrm>
            <a:off x="5181480" y="3276720"/>
            <a:ext cx="3657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egin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 of 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clar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f 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epend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ritten by:  Thomas Jeff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hold these Truths to be self-evident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all M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te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q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they are endowed by thei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r with certai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enabl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A58-491A-484A-8BDD-A644C68A34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among these 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b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the Pursuit of 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CC5F-1480-4FBE-B769-C55A91D8BA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annah Come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9:53:35Z</dcterms:created>
  <dc:creator>Selena Ramsey</dc:creator>
  <dc:description/>
  <dc:language>en-US</dc:language>
  <cp:lastModifiedBy>poweruser</cp:lastModifiedBy>
  <dcterms:modified xsi:type="dcterms:W3CDTF">2011-09-12T13:06:56Z</dcterms:modified>
  <cp:revision>148</cp:revision>
  <dc:subject/>
  <dc:title>Slide 1</dc:title>
</cp:coreProperties>
</file>